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203D-5A93-49F3-A158-4126BEE5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018-43F9-4BDE-AD4F-8981EBC4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59A627-8595-47FE-AADE-621DA8B8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61E286-DC64-4813-9016-00D19755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DA5779-411C-4E50-9AB8-06ACE524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9CB3F2-051F-4C49-87AB-B58023A1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F8003-DA14-4BBB-AA7D-C9A82B20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30594B-C78B-43E0-A083-05C16277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F6B371-9EBF-4684-85EC-1FECE972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F3F8C4-9FF1-463A-A83C-1FA5C259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4BB19B-B770-4BA3-B329-D40D55BD1F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C90F9A-F7AD-45EE-BBF7-4EDF8A8863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350-63DF-4C4B-955A-278FB745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FD1E3B-6B51-4D6D-B82D-2B991F04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E4F441-093B-4AE8-9101-82274FB8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D98A2A-53F7-40B2-A352-B0B64CD3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187795-8FCD-4549-9978-AF20D209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4EFC25-4DDE-4C2C-BEB4-FBF6B04D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37E6A5-B3C3-4F13-B0B1-AD59B929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C098E5-259E-4EF8-8D73-AE06940D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869FFF-D5BB-47CB-832D-52447E8F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7CD1DB-94AD-45E9-91E9-FC01C96B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B17FF1-78B6-437B-ADA9-003E9E74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F56-A112-4D78-B735-8D883C2F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34A99F-B677-4CD7-8FFC-76C0AB7C64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1C2FD-76F5-40B5-8618-71E506577B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2FDD4-A3E0-4434-9B44-9F6BF2E8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92BA7-EEFF-4542-AD7A-FD2FD93F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808EA-E270-4CFF-9CC9-C6D6CC5F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22F41-C282-4758-AC33-38D235B9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8EBA0-6296-4E70-BA50-1C742ACE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8ED7B-939F-4B7F-B4EB-A579A5E5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0BE46-29E0-42F0-A1EC-13C0A77A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39342-8EE8-4D4F-821F-AC97D582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8DB8A-AAE9-4361-942A-D71CE76B42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AC495-83D8-4F6F-A2DB-263D1194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D5E09-CD65-47F8-B53A-4001D6B3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9BADB-7980-4A02-AF28-7155D7DC21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E103F-EE52-420F-AA98-37ED1E3E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52429-68D7-436D-BE62-548876F1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7AF54-8FBB-47A6-82B7-E9CC89EC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B1D40-F02B-4EE7-8CB1-60FFAD6C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8D00C-52A9-4C44-9CB0-F7318E1F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F0B95-4031-4914-BE0B-8F7C6D43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6A06-B599-4C07-8C2D-DE58F15B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FADEE-70E8-4C30-97B3-AEEA1009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47FF2-62E2-4A39-A186-5432B6B2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DFE06-7292-4C7C-8852-A338EB3D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5453D-9326-43DB-B536-6F921992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1D78C-060F-4B1D-9119-A2FDB5EA72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CA8E55-3B6E-4FF2-A5C6-D2FD5A2851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2F653D-7D53-4449-B597-06001DEF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E99BAA-249F-42DE-8036-B6378B8E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220003-ACED-4E67-989D-0C3ADEEB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4988D7-C4FD-4088-8D1C-50A49F9B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512-4244-40F7-9741-962DC6BC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DE7D81-664E-4E8B-8A4E-240969F3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EDC758-3FC8-4AF4-92A3-510BAEDE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921C06-B4DC-4A70-9939-FA09F6D1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96402E-91CF-4AB9-B016-D72B2F06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190F5D-F816-4C15-98E6-B73B3065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534D9F-6366-4DFD-9AC3-35E6C88D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713DB2-4F07-47E5-9D45-DC409E66D4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93B953-DAF1-4681-B9F2-DDE8A872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B87D65-8216-4F6C-B2ED-2CC11999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64438B-A6A5-484B-A638-94217DDD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98B-08D4-4DE3-9077-B68A21D9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4815CB-4CF5-4F65-991F-F47D841B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D1A1C2-3E42-4B39-B394-85620BF4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D2D6B5-0196-4210-8EC2-5D5EE211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8E25CF-5164-40FA-95D8-5636B40F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E1FE7E-0FCF-4EBD-AE7B-1A35ECED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10D4D0-A436-4BF5-B5E3-A33392C7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A2304E-A3EB-40FE-AFC1-BE6BC61B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DA7902-C0E9-4365-AB61-413C6CBB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C2B048-1B3F-4195-8E2C-DCDA1542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9CDBC-11E0-4875-AAAE-F3232F33AA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FBF-02BB-477B-8CA5-837723D1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DD98E-08A3-4B00-BAE3-5870B043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57944-237B-4D51-AAC6-DA98BCEA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DFDF4-D135-4B2D-9B9D-FF0CFCA6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BEC4D-0AB7-4513-82C3-0591B1A6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A7ED2-BC56-4C73-A490-55C58125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FD2C0-7AC9-40E5-8122-E765DD82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6FDBA-6053-480A-BA61-8585493A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8928C-2ED2-411C-B639-AAD34DA7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104BD-0AB3-41E9-B170-E906C899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C4608-94F2-4E20-8187-21941AA5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FB1-62D6-47CE-8F74-8FDA6F73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94BBC-93B6-4190-B253-11C0967846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10BF5C-5671-4E79-BBB8-3FFBC59774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BCD6EE-FA7B-4037-9BCB-F236CEFA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4CCCE7-CF7F-4636-BB9C-77FE5D09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461692-7141-449A-AA0C-890E67B3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8B1CC8-922E-4152-8E5B-E7050D73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586B26-DF53-4ACE-8233-0FC882B1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A9C648-FD3B-4736-A090-56534B8E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27DC6F-325B-415D-9BBA-1F866A23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D88E46-117D-49B8-8B79-70CFBDB6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E8FA-6024-46AA-A1E6-CB9D06DB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F18C15-396F-410C-BF6F-AC5261D3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0FC12A-BD76-4FCC-A11B-ED7EAFEB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103214-C21D-4E2C-8EE0-075E99946F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2EBADE-2016-4F87-9CE8-ECEC3D9196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515A54-9BE4-4020-9DC1-72DF9126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DCA5D4-32A3-4644-9BA5-B396451F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B73AB2-D447-4A34-9A14-A0E251D8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B0EC6D-3753-48B8-BDC5-72AF7E12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81FB5A-9261-4F0E-8659-D42A6E99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C05099-3108-4FAE-8C93-B69BB719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289C-216C-4B58-BED2-D9B1CE68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E48304-F553-4D2E-98BE-20449AA0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60EFD6-4A62-41B2-B80E-A00FBEED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6BBEEE-56E3-45F5-92F3-D99E206C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12BDE5-3979-4D50-97E3-48EAA5A9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3423A3-E680-4670-815C-C0E2AAF5EB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CFDF1-2DD3-4198-B93C-78D8C53FA7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28D72-4232-420C-87F1-3DFFF0D1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5C3B2-B3A3-4372-8285-8B14AE5D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5C81D-F498-45A6-AA4A-843B442C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AF3F9-8346-4F89-9EB8-BDAD1403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388A-5B9E-49E7-AC36-6F32F64C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1A0D8-5AF6-4CB4-99F3-22329FB7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A1525-FC6F-48E1-9214-EF903782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41F21-9A7B-4A30-9EC3-ED919963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03DF0-3D7C-48C9-9570-186F5FBC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D9551-FD32-45B9-9625-D3910BE1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B8BC8-B456-4A71-A7F6-A3B75ABC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CA990-FD7A-40FE-B9F0-87F0E72463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FFC8FB-EEE0-41D1-8864-53B7C7F3D9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2B5BF3-2BB2-4D3D-B714-499704DF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C54822-3716-465B-ADFF-8BB1011E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D470-3ACC-4162-B474-AF9C3D64BAD3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1F06-783B-4687-B4D3-E39AC1F039F2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9F2B-B98C-4167-9B25-1858AF6F1CA4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2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DFE7-8453-473D-A991-B37207720CC2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B0A2-4AD8-4582-8FF5-814066BB5E7B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2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D70D-F676-47BC-9A36-CCD3CF3809BC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線接點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直線接點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橢圓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1660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fefac9"/>
                </a:solidFill>
                <a:latin typeface="標楷體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37AB-2FB3-4E32-B11B-2821CA649BDB}" type="datetime">
              <a:rPr b="0" lang="zh-TW" sz="2000" spc="-1" strike="noStrike">
                <a:solidFill>
                  <a:srgbClr val="fefac9"/>
                </a:solidFill>
                <a:latin typeface="標楷體"/>
                <a:ea typeface="標楷體"/>
              </a:rPr>
              <a:t>115/07/30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7812000" y="6165720"/>
            <a:ext cx="992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fefac9"/>
                </a:solidFill>
                <a:latin typeface="標楷體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efac9"/>
                </a:solidFill>
                <a:latin typeface="標楷體"/>
                <a:ea typeface="標楷體"/>
              </a:rPr>
              <a:t>第</a:t>
            </a:r>
            <a:fld id="{063B64A4-3944-4733-A0F3-9FB9BDDF8446}" type="slidenum">
              <a:rPr b="0" lang="zh-TW" sz="2000" spc="-1" strike="noStrike">
                <a:solidFill>
                  <a:srgbClr val="fefac9"/>
                </a:solidFill>
                <a:latin typeface="標楷體"/>
                <a:ea typeface="標楷體"/>
              </a:rPr>
              <a:t>&lt;number&gt;</a:t>
            </a:fld>
            <a:r>
              <a:rPr b="0" lang="zh-TW" sz="2000" spc="-1" strike="noStrike">
                <a:solidFill>
                  <a:srgbClr val="fefac9"/>
                </a:solidFill>
                <a:latin typeface="標楷體"/>
                <a:ea typeface="標楷體"/>
              </a:rPr>
              <a:t>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5791320" y="6203520"/>
            <a:ext cx="1876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2741-546B-4E3D-BC4E-82F80DFC61B7}" type="datetime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30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7"/>
          </p:nvPr>
        </p:nvSpPr>
        <p:spPr>
          <a:xfrm>
            <a:off x="788472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第</a:t>
            </a:r>
            <a:fld id="{74028172-BAA1-4540-BFE2-F396470BF793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r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直線接點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2151-198E-4A74-AC17-0CDF1AB0A289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4B8B-7534-43E8-BBA1-AD07DEE8CF74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39E6-53E2-44EC-92D3-913A551FEAE6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9B5A-1564-4E3B-8AA4-681CDE01F830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直線接點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直線接點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955C-6815-41B0-8083-B51E58A0D1A0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1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F441-95FF-483E-80BA-57372C07A590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74B4-814B-4962-8A73-9A06247B740A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0A68-7714-49F7-87C5-BC716E9FF16A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63F8-47F7-48B1-A95D-69339B5180DC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AAB4-9B80-4CF8-BAA3-F57CFFCF6339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105F-6FD0-4EB6-B481-DF07EF0BDE20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2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A12E-F6D0-416C-986F-3531A2FE5A9E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d0d0d"/>
                </a:solidFill>
                <a:latin typeface="標楷體"/>
              </a:rPr>
              <a:t>【總務處】　報告人：許錦芳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49" name="標題 1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04720"/>
          </a:xfrm>
          <a:prstGeom prst="rect">
            <a:avLst/>
          </a:prstGeom>
          <a:ln w="0">
            <a:noFill/>
          </a:ln>
        </p:spPr>
      </p:pic>
      <p:sp>
        <p:nvSpPr>
          <p:cNvPr id="450" name="投影片編號版面配置區 3"/>
          <p:cNvSpPr/>
          <p:nvPr/>
        </p:nvSpPr>
        <p:spPr>
          <a:xfrm>
            <a:off x="7812000" y="6165720"/>
            <a:ext cx="99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efac9"/>
                </a:solidFill>
                <a:latin typeface="標楷體"/>
                <a:ea typeface="標楷體"/>
              </a:rPr>
              <a:t>第</a:t>
            </a:r>
            <a:fld id="{FA916FB2-49B5-4D39-B8F7-95DE6481E98C}" type="slidenum">
              <a:rPr b="0" lang="zh-TW" sz="2000" spc="-1" strike="noStrike">
                <a:solidFill>
                  <a:srgbClr val="fefac9"/>
                </a:solidFill>
                <a:latin typeface="標楷體"/>
                <a:ea typeface="標楷體"/>
              </a:rPr>
              <a:t>&lt;number&gt;</a:t>
            </a:fld>
            <a:r>
              <a:rPr b="0" lang="zh-TW" sz="2000" spc="-1" strike="noStrike">
                <a:solidFill>
                  <a:srgbClr val="fefac9"/>
                </a:solidFill>
                <a:latin typeface="標楷體"/>
                <a:ea typeface="標楷體"/>
              </a:rPr>
              <a:t>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一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暑輔午餐供應：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7/28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一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-8/22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五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除班級外，搭餐同仁取餐地點另行公告或以電郵告知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二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暑輔晚餐供應：配合學生住宿情形辦理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三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103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學年度午、晚餐供應：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9/1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一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起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四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利用暑期執行各項設備檢修維護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4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BDB8-1EB6-4848-966E-1396FA754FA2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投影片編號版面配置區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9C9C-E2F8-44D0-9531-BCA4B6C77450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4940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感謝同仁共同留意學校各項硬體設施的安全維護，協助推動各項業務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祝福大家暑期愉快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90" name="Picture 2" descr="C:\Users\Shie\AppData\Local\Microsoft\Windows\Temporary Internet Files\Content.IE5\KEPFETZ2\MC900440456[1].wmf"/>
          <p:cNvPicPr/>
          <p:nvPr/>
        </p:nvPicPr>
        <p:blipFill>
          <a:blip r:embed="rId2"/>
          <a:stretch/>
        </p:blipFill>
        <p:spPr>
          <a:xfrm>
            <a:off x="755640" y="2421000"/>
            <a:ext cx="33307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一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管理員王寳能小姐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/28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到職，原職務代理人鐘毓修小姐同日離職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二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 103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學年度空間配置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已調整部分應修正位置標示，例如：高中部教官室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6/17(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二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)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主管會報確認明確位置，並將新平面圖以電郵寄送予全校同仁，另於首頁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/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各單位網頁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/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總務處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/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相關資料下載公告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7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月底調整各班級牌、辦公室名牌，另調整分機、廣播設定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452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CD9D-093A-4A9C-A992-AF1070A071F3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三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1" lang="zh-TW" sz="2600" spc="-1" strike="noStrike">
                <a:solidFill>
                  <a:srgbClr val="ffffff"/>
                </a:solidFill>
                <a:latin typeface="Constantia"/>
              </a:rPr>
              <a:t>依法辦理教職員工離校程序，檢視要項包含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事務組：財產設備、影印卡、電梯卡、借用物品等歸還，借用宿舍者辦妥退宿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文書組：公文完成歸檔或移交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出納組：應繳交費用與後續薪資、發放聯繫資訊確認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營養師：餐費繳清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03A4-F451-40E3-9A05-004522E14807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標題 3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sp>
        <p:nvSpPr>
          <p:cNvPr id="458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一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高中部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自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103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學年度起依教育局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101.07.25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北府教中字第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1012017767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號函代收代辦費支用規定，針對一般教室使用冷氣者，收取每生每學期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200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元「冷氣機維護及汰換費」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規劃支用前項經費，安裝新的高二教室電錶，以利同學使用冷氣，另針對高三教室冷氣執行檢修維護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二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「國高中化糞池改善」、「教學區門窗改善」工程預定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6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月底、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7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月初完成發包，暑假期間執行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三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活動中心：音控室經常因操作不當，損害麥克風、單槍，</a:t>
            </a:r>
            <a:r>
              <a:rPr b="1" lang="zh-TW" sz="2600" spc="-1" strike="noStrike">
                <a:solidFill>
                  <a:srgbClr val="ffffff"/>
                </a:solidFill>
                <a:latin typeface="Constantia"/>
              </a:rPr>
              <a:t>需要各借用單位務必熟悉掌握才使用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0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8234-2753-4514-8A07-2D31299298CB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四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1" lang="zh-TW" sz="2600" spc="-1" strike="noStrike">
                <a:solidFill>
                  <a:srgbClr val="ffffff"/>
                </a:solidFill>
                <a:latin typeface="Constantia"/>
              </a:rPr>
              <a:t>同仁平日如需借用會議室或公共空間，務必提早上網登錄，以免場地衝突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專科教室委由設備組全權管理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其他鑰匙有分別放置教務處設備組、總務處事務組，請配合各管控人員確認已完成場地借用再登記取用鑰匙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五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暑輔</a:t>
            </a:r>
            <a:r>
              <a:rPr b="1" lang="zh-TW" sz="2600" spc="-1" strike="noStrike">
                <a:solidFill>
                  <a:srgbClr val="ffffff"/>
                </a:solidFill>
                <a:latin typeface="Constantia"/>
              </a:rPr>
              <a:t>上課期間學生如需外出務必完成請假或外出證，或緊急時由老師陪同，其他概不放行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六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密切辦理各項自設廚房食材、瓦斯招標作業中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4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9CA2-BE19-4890-9369-4B61AE3EFF0B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七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配合教育局作業中：國中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、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棟及高中班級教室等建築物耐震初評，全校消防安檢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八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暑假期間一般校園開放時段比照學期間上班上課辦理，唯因課輔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5:00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結束，配合教職員上班時間，分別開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上午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5:00-7:00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，下午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16:00-18:30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。如遇特殊狀況，另行公告辦理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468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620C-EFA4-41D2-B2CB-4E0B78382CCD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一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學校收發以公務為主，同仁的私人物品應儘量自行與快遞、貨運聯繫點收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二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期末校務會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假學生宿舍餐廳辦理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(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緊接於期末餐敘後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)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，預定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6/30(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一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)14:00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開始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配合餐敘即開始辦理簽到，請各處室互相提醒儘早到場就位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考量現場不易檢視單槍投影，請先參閱電郵所寄之會議程序、提案單、各業務單位報告內容，以利會議順利進行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472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1B44-C062-4439-8630-1F630044DDD2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一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請各業務單位依規申請學生收費三聯單印製請示，並檢齊附件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相關規範可參閱學校首頁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/ 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各單位網頁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/ 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總務處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/ 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相關資料下載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性質隸屬專案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(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當學期結清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)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者，如學生照、重修及自學輔導費、教科書費、校外教學、畢業紀念冊、打靶費等，請於廠商請款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(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學期結束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)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時，與出納組確認是否仍有未繳名單，如因故未參加、無須收費，應簽註敘明理由，以利修改收費單為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0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元，積極維護學生權益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(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避免未來影響學生畢業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)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476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8B7E-EA81-4E6B-9351-60E298F82671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400" spc="-1" strike="noStrike">
                <a:solidFill>
                  <a:srgbClr val="ffffff"/>
                </a:solidFill>
                <a:latin typeface="Constantia"/>
              </a:rPr>
              <a:t>二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400" spc="-1" strike="noStrike">
                <a:solidFill>
                  <a:srgbClr val="ffffff"/>
                </a:solidFill>
                <a:latin typeface="Constantia"/>
              </a:rPr>
              <a:t>經費核銷之付款方式請與出納組聯繫研議並簽註於黏存單左下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7c354d"/>
                </a:solidFill>
                <a:latin typeface="Constantia"/>
              </a:rPr>
              <a:t>採購案件：由事務組及組員簽註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7c354d"/>
                </a:solidFill>
                <a:latin typeface="Constantia"/>
              </a:rPr>
              <a:t>鐘點費：由業務承辦單位簽註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7c354d"/>
                </a:solidFill>
                <a:latin typeface="Constantia"/>
              </a:rPr>
              <a:t>獎助學金或退費：由業務承辦單位簽註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5,000</a:t>
            </a:r>
            <a:r>
              <a:rPr b="0" lang="zh-TW" sz="1900" spc="-1" strike="noStrike">
                <a:solidFill>
                  <a:srgbClr val="ffffff"/>
                </a:solidFill>
                <a:latin typeface="Constantia"/>
              </a:rPr>
              <a:t>元以上應檢附學生或家長之金融帳戶封面影本，並建議以金山地區農會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1900" spc="-1" strike="noStrike">
                <a:solidFill>
                  <a:srgbClr val="ffffff"/>
                </a:solidFill>
                <a:latin typeface="Constantia"/>
              </a:rPr>
              <a:t>及其支會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1900" spc="-1" strike="noStrike">
                <a:solidFill>
                  <a:srgbClr val="ffffff"/>
                </a:solidFill>
                <a:latin typeface="Constantia"/>
              </a:rPr>
              <a:t>或郵局存簿為宜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1900" spc="-1" strike="noStrike">
                <a:solidFill>
                  <a:srgbClr val="ffffff"/>
                </a:solidFill>
                <a:latin typeface="Constantia"/>
              </a:rPr>
              <a:t>無匯款手續費用之損失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c376b"/>
                </a:solidFill>
                <a:latin typeface="Constantia"/>
              </a:rPr>
              <a:t>如欲劃帳給家長，另須附註關係證明</a:t>
            </a:r>
            <a:r>
              <a:rPr b="0" lang="en-US" sz="1800" spc="-1" strike="noStrike">
                <a:solidFill>
                  <a:srgbClr val="4c376b"/>
                </a:solidFill>
                <a:latin typeface="Constantia"/>
              </a:rPr>
              <a:t>(</a:t>
            </a:r>
            <a:r>
              <a:rPr b="0" lang="zh-TW" sz="1800" spc="-1" strike="noStrike">
                <a:solidFill>
                  <a:srgbClr val="4c376b"/>
                </a:solidFill>
                <a:latin typeface="Constantia"/>
              </a:rPr>
              <a:t>如戶籍謄本、身分證等可確認其關係之影本</a:t>
            </a:r>
            <a:r>
              <a:rPr b="0" lang="en-US" sz="1800" spc="-1" strike="noStrike">
                <a:solidFill>
                  <a:srgbClr val="4c376b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c376b"/>
                </a:solidFill>
                <a:latin typeface="Constantia"/>
              </a:rPr>
              <a:t>確無金融帳戶者，請家長簡書簽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5,000</a:t>
            </a:r>
            <a:r>
              <a:rPr b="0" lang="zh-TW" sz="1900" spc="-1" strike="noStrike">
                <a:solidFill>
                  <a:srgbClr val="ffffff"/>
                </a:solidFill>
                <a:latin typeface="Constantia"/>
              </a:rPr>
              <a:t>元以下如須出納轉發，對象應為在校生，清冊應有其班級、座號、姓名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1900" spc="-1" strike="noStrike">
                <a:solidFill>
                  <a:srgbClr val="ffffff"/>
                </a:solidFill>
                <a:latin typeface="Constantia"/>
              </a:rPr>
              <a:t>避免誤發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0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BB81-A1A6-4D7C-9F1C-888B0CD1A624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14:10:18Z</dcterms:created>
  <dc:creator>Shie</dc:creator>
  <dc:description/>
  <dc:language>en-US</dc:language>
  <cp:lastModifiedBy>User</cp:lastModifiedBy>
  <dcterms:modified xsi:type="dcterms:W3CDTF">2014-06-27T06:47:37Z</dcterms:modified>
  <cp:revision>18</cp:revision>
  <dc:subject/>
  <dc:title>101學年度第2學期校務會議</dc:title>
</cp:coreProperties>
</file>